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0B8E-84F1-43FB-BC82-48B77BE7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2F76-5B03-46BF-978C-DCB11129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C56DF-B598-40BF-930B-582A3C4D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2C7FD-1054-4901-AFF1-6A13B397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E5F235-EC36-44EB-A2ED-F2815E0E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B0F31C-E8DA-439C-B8AD-506BEF07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2A78A-79E9-410D-ABEF-FCD84C6A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25026-9216-40E1-8901-C6BE077A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A4209-E22E-449B-803A-560F1484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46441-0577-40F4-B7E5-E1ABAE195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C25E4-79DB-41C5-9CC7-6853AAA2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BCCD4-BF65-4AAC-A4A6-C92AE8A71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770-76AF-43E5-A790-2B1E57065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808B6-8704-4B94-B93A-FF76BE39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1506FB-DA1F-4E4F-ACE5-B4B42147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0B9DCF-EADC-4BAC-8559-6460EDEB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51005-CD24-40DA-8337-D7FACD9B3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1A51F9-4CFB-4413-8C19-46D93735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5F7051-A9B6-4290-AAEE-3D07E774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B60BD-C196-4D15-9271-CB985F14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8EEDF4-2FFA-4CFC-B368-CE9F3A084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B068F-6401-4CE1-9D4B-D268DAA1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8D8CD-F624-47E4-96A6-D88DFDAD2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0678-5142-44C5-9F4B-E4F325B2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2107F-C58D-4D84-A698-62DC5648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9081A-A5F6-4BD5-B605-ACE1E0B8C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0A958A-5C3A-4657-8FAF-0522BE83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45A0D-138F-45A6-A2A1-92A790BA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90EC6-877D-4379-81FB-89ECA524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666011-5A2A-4BB7-8E12-FC65B819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A207C-6EC5-448A-B750-7B351460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B9BA7-EA1D-4662-A09F-10A2670B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67E3D-8E48-4FF7-B23D-9FFD36CC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CDFF4-188E-46AE-A426-E52A25B0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F56D-6DAF-4E42-A115-1C94B8F0F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15D4A-D75F-479B-A0EB-96EA90F2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9B3AB-7512-47A9-A2DE-3294BEA6A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79587-5FA8-42BB-9539-062BF2E8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5C432-47E0-46BB-BC7C-5E963F96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8592D5-7C08-48F5-AAD1-29AEA2F7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9DD07-C0DA-4E0E-A232-5DAE32A9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8E5364-2C39-4927-825F-16588833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4DB50-422C-4D15-998C-5B34B81F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875038-1510-4734-BCD0-BAF1FEFB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7D1BB-0634-42B9-9291-6023A514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D035-C5ED-4978-9312-2948EF68F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031AC8-D9C5-4CC9-9DE6-4D733BC3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0DD58-040A-4F37-974C-826F29DC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4F496-4505-4738-A527-E6F2A75B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DDDCC-E52A-4543-A0D0-7CDB2AC9F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B6706C-7751-4C20-AB1A-524A15960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459C4-961C-429E-AB4C-D4FBDD1C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BC3F1-2FCB-4595-8D97-716DB526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FE421-58D5-4C65-95E2-6296DB0C6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D6BD8-E255-4615-8975-4B57CBAB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3336A5-05F3-47F4-AA50-3890CF3F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4CE0-6BFE-4635-B7EF-186B65BF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D36F73-05F6-4592-9BBB-CFF5E28E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BF244-1F44-4E38-B793-546221F4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352DF-5C9D-4EC9-AD5C-827E6EB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9DB24E-BB6D-46D5-BE57-C4D151DE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68509-67BC-44C4-A703-7BB866E4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A60936-5ADF-4809-8401-DF6B7666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47EF66-F238-4055-8319-E3EFEB6E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FBD89-D76C-48DA-856B-39314861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6EA4E-0935-4310-8A18-92F3D15A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98D53-E600-4593-84AF-E04B0CD1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E954A-3EAA-47FC-BB96-644268F0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A35F1-ECDA-4CE3-9C93-CBC8927B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AFA6D-D6C9-4E6E-B974-2BE10A65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89F78-54D6-40A4-A3CC-FBB59811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58A8AA-4062-4C6A-B377-F389E7DA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CD960-84A4-4CAD-959C-1B34984E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5B6EC8-0060-4AF0-A7A0-1C3D50E2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C06BF1-CC25-4364-A127-C7CCC8C2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7D8520-CA28-4F14-B522-AF7CFA95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464B6-AFFC-4A02-B71A-C40C44546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2B0403-CC1C-4E69-BB61-888591A2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B5B3-1618-4B6A-BCAD-BE7F1DF5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BE51E-C556-4A27-AE67-E20CFA24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607A4B-EBB5-48BA-A615-A1D14FCA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A1C99D-5FAB-430F-B595-47DEECEC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C38602-05A0-441B-82BF-854C10912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A7D670-96B0-40CE-8F89-4C5F6A1B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1EEB6-8991-42D8-AB53-37BFB36C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8DF4AF-9CBD-4406-9B4B-86B0207E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34E9F2-285E-4F52-BB99-9A131126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36AF31-3597-4623-9D99-D8439880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715B8A-6CFC-46E8-A1AD-BA59340BC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97CB-1892-461A-850A-D4A9C12E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0370A6-1D61-4C76-9609-36943F62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EA5FF1-AE63-4D38-8460-74B8E8D5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9D1C6-FE31-40F7-A203-0D414051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28D484-1702-4609-84F8-5E419036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F39600-E4C9-458A-A603-3A3F68D8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B7248-755A-4BC3-BD43-D2D011FA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9E4671-1569-4F16-917E-AB2E1E57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38A7DE-61E7-400C-8A7E-03D7E344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5EBB34-C1AB-49C9-9F47-84D2F0FC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8020ED-0587-49CB-91D1-7DA39E7D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B427-A4B7-4735-AF9C-F65B79C1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7A98B-0626-4D6F-9FFA-9B935F50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82B874-664C-489A-8E6C-2F34C4E3A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6EB31-3712-4D27-A3DB-2DFD2FC9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A34FE4-A693-4C0C-9155-60525126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954B2A-2491-46CD-8DE1-1D66A351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F6EC89-B0C8-469A-AAC7-2A3EDC4BC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E64088-169D-4386-B366-CF298DB4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D88C9-9933-43C5-91C4-506D9DE2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F5BB9-2EE5-4DA9-860D-D04976D3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C4DCE7-8D8B-494C-BD9E-1BB1787C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253E-C81B-4305-AED1-D59CB83B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7940-CFE2-46ED-B246-58F92297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EEBDA7-A8ED-4505-AAA7-144999C0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F6772A-E251-46C4-A505-72F38129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A5AB9-A77E-4E42-B71B-9F2E6A48C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7F7575-05A8-4879-AA3B-86DB5964A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FD71A-834E-4CF5-9D43-CD3543C8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6F9DC9-4731-4634-AFC0-E2F7C89B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49C170-28F0-493A-9E27-79C1BEB3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D91C1A-2865-4CD6-94DB-3130166D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204ECB-2702-4B5E-8248-2004EF43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5AB96-4646-4745-8AB8-36913EAE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B6F3-1093-4AFE-8FAF-C71B753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6B1BB3-2F22-4FD7-94C4-BB61237C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61DF53-31C6-4E5B-94F6-6F0738762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59BFAA-856F-440B-B852-0535C8F1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367974-78B0-45E7-90E8-B66ACFDE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AE339E-DFBD-4EFF-A60E-7CE8E66DF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E0BA1D-B516-41B4-BAB7-4F7D5700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3D7CD-CC61-48EE-8CBA-3E296229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5ECA-F67A-4128-B6EE-1D980CFA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06E48-4790-4B80-B34D-5CC578CA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DEF5-64A2-4932-ADAF-F9F02899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A11E0-AFD8-464A-B512-6D9042B68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92917-8C1D-45C0-86D0-F53DD558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D1CD3-649D-4FA7-87FC-5793C8A7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7DEC7-4174-44C4-84B8-B0A875A9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A4520-43C9-44B0-BAA7-E382A992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1B81-AA34-43A9-9CD0-3CADD1BA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0378-382D-4D50-ACF4-1A43F96ED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B6B42-3FA5-485D-9051-4682AF6E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D6BC5-B921-4FFC-9236-05F5DBA4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2BDDF-0C6D-46E1-BAC2-74B96EE9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F6550-CD4D-485A-97AF-6F0C511D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0C724-5A7F-4FA2-8983-FA5CB305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50317-E47F-4B1B-AFBE-F7600943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5A37-8921-4464-A159-EBA8E87DC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9C022-A957-4410-8C66-175BF3CB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AAB75-FE29-48CF-A97C-B56DF08D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302-42F6-4092-9B56-BA929E1E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1064E-F7AE-4978-9D49-7D18EFE7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BF901-3ECB-4D01-8219-6D43AAFF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28086-A08C-4D48-BCC3-142B4EAE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282E9-5515-4414-B001-404BF32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07FB2-3AB3-4749-BC2A-27F2A9A7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432B-C67F-41D6-B3CB-11074993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C80DC-4EA0-43BB-B069-08C77474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0BA3-149B-4432-A16C-743C071DB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BFAA-6C4D-473F-8116-C0DDC743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99659-CAE5-4BFB-8557-53BD050F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1BA9-6241-4EE1-99A4-618CAC8F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D70B7-1128-4170-B9DB-D2110ADC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8673A-8134-4C3D-9D96-AAF49CDD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219F1-8177-432F-A1DD-B653B8B9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83737-98F5-42B2-A187-9420F9BF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C30E1-597D-4143-8AB3-8F940EFD4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22ED1-FB81-4468-AEE6-83423BB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87CB5-6680-48C2-8971-61D69EC2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BD609-0160-40BF-B954-5E1F9288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7E43-558A-449A-85FF-D0ACE98B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FA4A9-1754-4A98-8623-40C0466E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DA85-90B0-486D-89C5-ABFC9275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13B28-BE05-4D8F-AAA3-7D4721D9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FCE91C-3A7B-4005-9F21-555BFFB7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96ABB-E68B-4EED-8C72-ECF8F723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0CC1C-F6C4-408C-85E4-09610B99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57479-7BB6-4ED1-84E4-97349C16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DEE26-BB54-4C41-B10D-488EE834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A99BB-06B2-41F8-A281-1650D499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3CA6F-6121-4483-BCEB-1BA53310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8D3BE-FDAB-4294-A13B-5DE66BCB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0CB53-DACC-4F78-AB8E-9DD20656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17A8-7575-4419-A5CC-6751DB2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16B1A-3053-4CDC-A7FA-80B35012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B8D50-51A4-4891-8D35-695732F34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B4897-9F32-4C6F-AA61-DFD37388B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C5B77-6902-4846-A741-7E1E8BD15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67D1-E0DF-4368-8EC5-EED747C7D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4031C-AB2D-4674-BBDF-06760336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5B56F-A643-42DD-B3AC-CA1EADC4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6B2DB-549E-493F-B3A9-08839DC1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41D238-5229-4D33-9061-695D44C2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EBE6D-6262-415D-A15B-2D4D0196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1FF4-D3BC-47DF-8BED-21CC9E9A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96CB3-A31A-4990-B742-C3C44E9C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BC0BB-C32B-49BD-9070-0A9B11EA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849764-F775-4580-A435-6A5FD840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AA322-7C5F-47CE-9FC9-F514FBEA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5B86D-BB75-456D-B8D4-5DB3F79A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75A2C-FC4A-4668-B191-ACE2743FB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DCA1B-AFF0-46F2-8354-044BD279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5003-FAC2-4532-B907-DD3F41A1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F5E715-66F0-4297-A06B-BD5638FC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4A542-A07C-4238-90D6-11F5E815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131-A304-4AE6-8A53-B720110A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D0F78-A467-462F-BAB6-E816AF5E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657AB-5089-4E80-9D82-3CF4EA07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2DDEA-03A1-404F-B3C3-211FD253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7B5A1-B5A5-4B05-94A2-B03BCCF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7D79E-4F0B-4431-A103-A1B89F63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AC355-D26D-4A19-BA82-5D88698E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A363B-7C4E-4FBB-8A0D-0F8E1C33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D3689-A92E-4A21-A7DC-F4EB58C2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D264D-27FF-4D3E-9C5F-A6AFEE34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44C7C2-753D-4D09-A9DE-E8310E99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Скругленный прямоугольник 8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F31C-2204-4DE0-999F-C3296F087C14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38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1349-39BA-4D88-9CD0-BD435D41D9B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3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B6A4-E241-489E-85EE-F87B6A82E11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47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B987-5041-4DA6-A9F0-58FCE7100C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2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7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8BC28-C37E-43B3-8567-9BE2FED11D1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56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01BC-6CF3-47ED-9391-F597B54E57E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1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29DC-8C9C-4320-9421-15AD1CDCE1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65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6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42D8-9D26-4079-B245-E21D52783F2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00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9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D15D-2A69-428F-8938-4A31A1D3951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745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64B3-357F-478A-85D9-D27131F4036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D92E-A1BA-40D5-9A48-371B8411A7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E7F5-B543-420B-8EE2-DD8C88CD4A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09480" y="6171840"/>
            <a:ext cx="7925040" cy="360"/>
            <a:chOff x="609480" y="6171840"/>
            <a:chExt cx="7925040" cy="360"/>
          </a:xfrm>
        </p:grpSpPr>
        <p:sp>
          <p:nvSpPr>
            <p:cNvPr id="129" name="Line 5"/>
            <p:cNvSpPr/>
            <p:nvPr/>
          </p:nvSpPr>
          <p:spPr>
            <a:xfrm>
              <a:off x="609480" y="6172200"/>
              <a:ext cx="7925040" cy="0"/>
            </a:xfrm>
            <a:prstGeom prst="line">
              <a:avLst/>
            </a:prstGeom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10800000">
              <a:off x="609480" y="6171840"/>
              <a:ext cx="7925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38AF0-99DA-485D-9ECA-5C1DF2FEDF0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Скругленный прямоугольник 7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31100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D604-C604-4C3D-8704-FB4FD9D3590A}" type="slidenum">
              <a:rPr b="0" lang="ru-RU" sz="18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Скругленный прямоугольник 10" descr=""/>
          <p:cNvPicPr/>
          <p:nvPr/>
        </p:nvPicPr>
        <p:blipFill>
          <a:blip r:embed="rId2"/>
          <a:stretch/>
        </p:blipFill>
        <p:spPr>
          <a:xfrm>
            <a:off x="419040" y="433440"/>
            <a:ext cx="8305920" cy="43416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87D1-E516-45E0-BD0B-2B6DA1A75910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22A0-CF6A-48EC-9682-71473B607E4B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3" y="0"/>
                </a:lnTo>
                <a:cubicBezTo>
                  <a:pt x="2295505" y="0"/>
                  <a:pt x="2324099" y="28594"/>
                  <a:pt x="2324099" y="63866"/>
                </a:cubicBezTo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4995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499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04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041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eb31b4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afada5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42F7-E91E-45A3-9033-84983F295D86}" type="slidenum">
              <a:rPr b="0" lang="ru-RU" sz="2400" spc="-1" strike="noStrike">
                <a:solidFill>
                  <a:srgbClr val="afada5"/>
                </a:solidFill>
                <a:latin typeface="Verdan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D414-6699-4AE3-8606-A77D0F64E80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ro.perm.ru/" TargetMode="External"/><Relationship Id="rId2" Type="http://schemas.openxmlformats.org/officeDocument/2006/relationships/hyperlink" Target="http://www.iro.perm.ru/" TargetMode="External"/><Relationship Id="rId3" Type="http://schemas.openxmlformats.org/officeDocument/2006/relationships/hyperlink" Target="http://www.iro.perm.ru/" TargetMode="External"/><Relationship Id="rId4" Type="http://schemas.openxmlformats.org/officeDocument/2006/relationships/hyperlink" Target="http://www.iro.perm.ru/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ro.perm.ru/" TargetMode="External"/><Relationship Id="rId2" Type="http://schemas.openxmlformats.org/officeDocument/2006/relationships/hyperlink" Target="http://iro.perm.ru/" TargetMode="External"/><Relationship Id="rId3" Type="http://schemas.openxmlformats.org/officeDocument/2006/relationships/hyperlink" Target="http://iro.perm.ru/" TargetMode="External"/><Relationship Id="rId4" Type="http://schemas.openxmlformats.org/officeDocument/2006/relationships/hyperlink" Target="mailto:ozdip@list.ru" TargetMode="External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docs.cntd.ru/document/zakon-rf-ob-obrazovanii-v-rossijskoj-federacii" TargetMode="External"/><Relationship Id="rId2" Type="http://schemas.openxmlformats.org/officeDocument/2006/relationships/hyperlink" Target="http://zakon-ob-obrazovanii.ru/" TargetMode="External"/><Relationship Id="rId3" Type="http://schemas.openxmlformats.org/officeDocument/2006/relationships/hyperlink" Target="http://zakon-ob-obrazovanii.ru/" TargetMode="External"/><Relationship Id="rId4" Type="http://schemas.openxmlformats.org/officeDocument/2006/relationships/hyperlink" Target="http://si-sv.com/publ/1/zdorovesberezhenie_na_uroke/14-1-0-74" TargetMode="External"/><Relationship Id="rId5" Type="http://schemas.openxmlformats.org/officeDocument/2006/relationships/hyperlink" Target="http://si-sv.com/publ/1/zdorovesberezhenie_na_uroke/14-1-0-74" TargetMode="External"/><Relationship Id="rId6" Type="http://schemas.openxmlformats.org/officeDocument/2006/relationships/hyperlink" Target="http://si-sv.com/publ/1/zdorovesberezhenie_na_uroke/14-1-0-74" TargetMode="External"/><Relationship Id="rId7" Type="http://schemas.openxmlformats.org/officeDocument/2006/relationships/hyperlink" Target="http://si-sv.com/publ/1/zdorovesberezhenie_na_uroke/14-1-0-74" TargetMode="External"/><Relationship Id="rId8" Type="http://schemas.openxmlformats.org/officeDocument/2006/relationships/hyperlink" Target="http://si-sv.com/publ/1/zdorovesberezhenie_na_uroke/14-1-0-74" TargetMode="External"/><Relationship Id="rId9" Type="http://schemas.openxmlformats.org/officeDocument/2006/relationships/hyperlink" Target="http://si-sv.com/publ/1/zdorovesberezhenie_na_uroke/14-1-0-74" TargetMode="External"/><Relationship Id="rId10" Type="http://schemas.openxmlformats.org/officeDocument/2006/relationships/hyperlink" Target="http://si-sv.com/publ/1/zdorovesberezhenie_na_uroke/14-1-0-74" TargetMode="External"/><Relationship Id="rId11" Type="http://schemas.openxmlformats.org/officeDocument/2006/relationships/hyperlink" Target="http://si-sv.com/publ/1/zdorovesberezhenie_na_uroke/14-1-0-74" TargetMode="External"/><Relationship Id="rId12" Type="http://schemas.openxmlformats.org/officeDocument/2006/relationships/hyperlink" Target="http://vopk.ru/view.php?event=levelxx_view&amp;a=5%7C72" TargetMode="External"/><Relationship Id="rId13" Type="http://schemas.openxmlformats.org/officeDocument/2006/relationships/hyperlink" Target="http://vopk.ru/view.php?event=levelxx_view&amp;a=5%7C72" TargetMode="External"/><Relationship Id="rId14" Type="http://schemas.openxmlformats.org/officeDocument/2006/relationships/hyperlink" Target="http://vopk.ru/view.php?event=levelxx_view&amp;a=5%7C72" TargetMode="External"/><Relationship Id="rId15" Type="http://schemas.openxmlformats.org/officeDocument/2006/relationships/hyperlink" Target="http://vopk.ru/view.php?event=levelxx_view&amp;a=5%7C72" TargetMode="External"/><Relationship Id="rId16" Type="http://schemas.openxmlformats.org/officeDocument/2006/relationships/hyperlink" Target="http://si-sv.com/publ/1/zdorovesberezhenie_na_uroke/14-1-0-74" TargetMode="External"/><Relationship Id="rId17" Type="http://schemas.openxmlformats.org/officeDocument/2006/relationships/hyperlink" Target="http://si-sv.com/publ/1/zdorovesberezhenie_na_uroke/14-1-0-74" TargetMode="External"/><Relationship Id="rId18" Type="http://schemas.openxmlformats.org/officeDocument/2006/relationships/hyperlink" Target="http://si-sv.com/publ/1/zdorovesberezhenie_na_uroke/14-1-0-74" TargetMode="External"/><Relationship Id="rId19" Type="http://schemas.openxmlformats.org/officeDocument/2006/relationships/hyperlink" Target="http://si-sv.com/publ/1/zdorovesberezhenie_na_uroke/14-1-0-74" TargetMode="External"/><Relationship Id="rId20" Type="http://schemas.openxmlformats.org/officeDocument/2006/relationships/hyperlink" Target="http://si-sv.com/publ/1/zdorovesberezhenie_na_uroke/14-1-0-74" TargetMode="External"/><Relationship Id="rId21" Type="http://schemas.openxmlformats.org/officeDocument/2006/relationships/hyperlink" Target="http://si-sv.com/publ/1/zdorovesberezhenie_na_uroke/14-1-0-74" TargetMode="External"/><Relationship Id="rId22" Type="http://schemas.openxmlformats.org/officeDocument/2006/relationships/hyperlink" Target="http://si-sv.com/publ/1/zdorovesberezhenie_na_uroke/14-1-0-74" TargetMode="External"/><Relationship Id="rId23" Type="http://schemas.openxmlformats.org/officeDocument/2006/relationships/hyperlink" Target="http://si-sv.com/publ/1/zdorovesberezhenie_na_uroke/14-1-0-74" TargetMode="External"/><Relationship Id="rId24" Type="http://schemas.openxmlformats.org/officeDocument/2006/relationships/hyperlink" Target="http://festival.1september.ru/articles/627448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health.iro.perm.ru/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-181080" y="765000"/>
            <a:ext cx="8637840" cy="28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Роль конкурса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«Учитель здоровья России»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 формировании культуры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здоровья педагогов и обучающихся: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пыт проведения в Пермском крае,  </a:t>
            </a:r>
            <a:br>
              <a:rPr sz="2400"/>
            </a:b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роблемы и перспективы</a:t>
            </a:r>
            <a:br>
              <a:rPr sz="2800"/>
            </a:br>
            <a:endParaRPr b="1" lang="en-US" sz="2400" spc="-1" strike="noStrike">
              <a:solidFill>
                <a:srgbClr val="ff4995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108000" y="4122720"/>
            <a:ext cx="5400720" cy="273528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Лядова Наталья Владимировн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к.мед.наук, вед. научн.сотрудн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ГАУ ДПО «Институт развития образования Пермского кра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iro.perm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Arial"/>
              </a:rPr>
              <a:t>Пермь 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Picture 4" descr="F:\USERS\МАМА\Files - МАМА\А 2014\Конференция в Новосибирске\permskkrai-1.jpg"/>
          <p:cNvPicPr/>
          <p:nvPr/>
        </p:nvPicPr>
        <p:blipFill>
          <a:blip r:embed="rId5"/>
          <a:stretch/>
        </p:blipFill>
        <p:spPr>
          <a:xfrm>
            <a:off x="6948360" y="0"/>
            <a:ext cx="2195640" cy="2179800"/>
          </a:xfrm>
          <a:prstGeom prst="rect">
            <a:avLst/>
          </a:prstGeom>
          <a:ln w="0">
            <a:noFill/>
          </a:ln>
        </p:spPr>
      </p:pic>
      <p:pic>
        <p:nvPicPr>
          <p:cNvPr id="791" name="Рисунок 5" descr="набережная.jpg"/>
          <p:cNvPicPr/>
          <p:nvPr/>
        </p:nvPicPr>
        <p:blipFill>
          <a:blip r:embed="rId6"/>
          <a:stretch/>
        </p:blipFill>
        <p:spPr>
          <a:xfrm>
            <a:off x="5580000" y="3716280"/>
            <a:ext cx="3341880" cy="2808360"/>
          </a:xfrm>
          <a:prstGeom prst="rect">
            <a:avLst/>
          </a:prstGeom>
          <a:ln w="0">
            <a:noFill/>
          </a:ln>
        </p:spPr>
      </p:pic>
      <p:pic>
        <p:nvPicPr>
          <p:cNvPr id="792" name="Рисунок 1" descr=""/>
          <p:cNvPicPr/>
          <p:nvPr/>
        </p:nvPicPr>
        <p:blipFill>
          <a:blip r:embed="rId7"/>
          <a:stretch/>
        </p:blipFill>
        <p:spPr>
          <a:xfrm>
            <a:off x="0" y="0"/>
            <a:ext cx="188604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конкурса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0" y="1125360"/>
            <a:ext cx="9144000" cy="616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Затруднения конкурсант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цели и задачи, которых в конспектах порой очень много, являются общими, не конкретными к представляемому уроку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цель не соответствует ожидаемым результат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жидаемые результаты представлены общими словами, которые можно отнести к изучению предмета в целом, а не к конкретному уроку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достаточно представлены здоровьесберегающие образовательные технологии, есть лишь некоторые приемы снятия позостатического напряжения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имеет место неправильное отнесение метапредметных, предметных и личностных результатов к соответствующей группе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описываемая деятельность учеников является исполнительской, а не учебн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часто в работах отсутствует оценивание достигнутых результат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в ряде работ тренеров-преподавателей, учителей физической культуры вообще нет акцента на здоровьесбережение во время урока и воспитательного компонента в плане повышения мотивации детей следовать правилам ЗОЖ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f0179"/>
                </a:solidFill>
                <a:latin typeface="Calibri"/>
              </a:rPr>
              <a:t>- неправильно оформленный список литературы, порой старой, небольшой перечень или его отсутств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006560" y="0"/>
            <a:ext cx="813744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облемы в организации, проведении Конкурс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108000" y="1052640"/>
            <a:ext cx="8856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ники: вместо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«учителя общеобразовательных организаций, тренеры, преподаватели дополнительного, общего и профессионального образования»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писать: 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«учителя и педагоги общеобразовательных организаций, педагоги дополнительного образования, преподаватели среднего профессионального образова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Лучшему пониманию педагогом того, каким должен быть его План-конспект урока/занятия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,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 правильнее –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Технологическая карта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, представляемых на конкурс, будут способствовать четкие критерии и их показат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едставление-характеристика с  описываемой в ней здоровьесберегающей деятельностью педагога, сведения о конкурсанте в Информационной карте тоже должны войти в список критерие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83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Предлагаем такой вариант критериев:</a:t>
            </a:r>
            <a:r>
              <a:rPr b="0" lang="ru-RU" sz="2400" spc="-1" strike="noStrike">
                <a:solidFill>
                  <a:srgbClr val="0000cc"/>
                </a:solidFill>
                <a:latin typeface="Calibri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08000" y="980640"/>
            <a:ext cx="903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оформления и содержания технологической карты или плана-конспекта урока/занятия (Максим. 17 баллов). Заочный ту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Дидактическое оформление технологической карты/плана-конспекта урока/занятия  (0-3 балл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. обоснованность темы и выбора содержания в контексте заявленной пробл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. грамотное дидактическое оформление плана конспек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. вариативность методического инструментария в достижении планируемых результатов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2.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держание соответствует теме, включает воспитательный компонент по формированию культуры ЗОЖ, здоровьесберегающие технологии (0-3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1. глубина и оригинальность раскрытия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2. инновационные организационные формы и здоровьесберегающие образовательные технологии на урок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2.3. здоровьесберегающий режим урока, воспитательный компонен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684000" y="115920"/>
            <a:ext cx="845964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Оригинальность используемых приемов, форм в достижении и оценивании результатов (0-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1. достижение заявленных личностных/ метапредметных/предметных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2. оценивание результат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3.3. рефлекс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Использованная литература (0- 3 балл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1. правильность оформления списк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2. широта использованной литератур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4.3. новизна источ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Характеристика (0-5 баллов)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Систематичность проведения пропаганды ЗОЖ среди обучающихся в урочной и внеурочной деятельности; удовлетворенность родителей; публикации, разработка и издание методических рекомендаций, пособий; участие педагога в конкурсах, посвященных сохранению и укреплению здоровья и ЗОЖ,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ВСЕГО баллов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имеч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810108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Критерии оценки конкурсных мероприятий. Очный тур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0" y="981000"/>
            <a:ext cx="9036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Фрагмент урока, внеклассного занятия. Регламент 25 минут.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 Максимальное количество баллов – 4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1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лубина содержания и оригинальность форм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2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гармоничная интеграция вопросов здоровья и предметного содержания, воспитательный компонент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3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спользование здоровьесберегающих образовательных технологий, деятельностной основы учебной работы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4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Здоровьесберегающий режим урока, занятия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5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Результативность урока, занятия (соответствие достигнутых результатов заявленной цели, оценивание результатов, рефлексия)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1.6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Коммуникативная культура педагога, способность к импровизации (0-8 баллов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7f0179"/>
                </a:solidFill>
                <a:latin typeface="Calibri"/>
              </a:rPr>
              <a:t>Итого за фрагмент уро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9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Прямоугольник 1"/>
          <p:cNvSpPr/>
          <p:nvPr/>
        </p:nvSpPr>
        <p:spPr>
          <a:xfrm>
            <a:off x="0" y="189000"/>
            <a:ext cx="91440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Arial"/>
                <a:ea typeface="SimSun"/>
              </a:rPr>
              <a:t>    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  <a:ea typeface="SimSun"/>
              </a:rPr>
              <a:t>Таким образом, участие в конкурсе «Учитель здоровья России» помогает учителю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амому быть примером ведения здорового образа жизни, «заражает» других коллег стать участником Конкурса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8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строить свои уроки по-новому, создавая условия для эффективной учебной работы учеников без раннего и выраженного утомления, стрессирования, сохраняя на протяжении всего урока и учебного дня интерес и понимание детей, их высокую умственную работоспособность и хорошее настро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А это и есть здоровь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1" name="Рисунок 3" descr="jat2uj15ohk_Preview.jpg"/>
          <p:cNvPicPr/>
          <p:nvPr/>
        </p:nvPicPr>
        <p:blipFill>
          <a:blip r:embed="rId1"/>
          <a:stretch/>
        </p:blipFill>
        <p:spPr>
          <a:xfrm>
            <a:off x="755640" y="4437000"/>
            <a:ext cx="3600360" cy="2702160"/>
          </a:xfrm>
          <a:prstGeom prst="rect">
            <a:avLst/>
          </a:prstGeom>
          <a:ln w="0">
            <a:noFill/>
          </a:ln>
        </p:spPr>
      </p:pic>
      <p:pic>
        <p:nvPicPr>
          <p:cNvPr id="842" name="Рисунок 5" descr="Рисунок1.jpg"/>
          <p:cNvPicPr/>
          <p:nvPr/>
        </p:nvPicPr>
        <p:blipFill>
          <a:blip r:embed="rId2"/>
          <a:stretch/>
        </p:blipFill>
        <p:spPr>
          <a:xfrm>
            <a:off x="5003640" y="4367160"/>
            <a:ext cx="3594240" cy="2490840"/>
          </a:xfrm>
          <a:prstGeom prst="rect">
            <a:avLst/>
          </a:prstGeom>
          <a:ln w="0">
            <a:noFill/>
          </a:ln>
        </p:spPr>
      </p:pic>
      <p:pic>
        <p:nvPicPr>
          <p:cNvPr id="843" name="Рисунок 1" descr=""/>
          <p:cNvPicPr/>
          <p:nvPr/>
        </p:nvPicPr>
        <p:blipFill>
          <a:blip r:embed="rId3"/>
          <a:stretch/>
        </p:blipFill>
        <p:spPr>
          <a:xfrm>
            <a:off x="-228600" y="17640"/>
            <a:ext cx="107964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Перспективы конк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0" y="907920"/>
            <a:ext cx="9144000" cy="633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f0179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Конкурсу бы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на всех уровня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от институциального до всероссийског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одумать соотнесение двух конкурсов «Учитель здоровья России» и «Школа – территория здоровь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f0179"/>
                </a:solidFill>
                <a:latin typeface="Calibri"/>
              </a:rPr>
              <a:t>Придать более современное звучание Положению о Конкур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6" name="Рисунок 1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617480" cy="143964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6" descr="D:\USERS\Бабуся\Pictures\ПОИПКРО, ПКИПКРО, ЦРО, ИРО ПК\Учитель здоровья 2013\IMG_3376 - копия.JPG"/>
          <p:cNvPicPr/>
          <p:nvPr/>
        </p:nvPicPr>
        <p:blipFill>
          <a:blip r:embed="rId2"/>
          <a:stretch/>
        </p:blipFill>
        <p:spPr>
          <a:xfrm>
            <a:off x="3419640" y="4765680"/>
            <a:ext cx="279072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	</a:t>
            </a:r>
            <a:r>
              <a:rPr b="0" lang="ru-RU" sz="4400" spc="-1" strike="noStrike">
                <a:solidFill>
                  <a:srgbClr val="0066cc"/>
                </a:solidFill>
                <a:latin typeface="Calibri"/>
              </a:rPr>
              <a:t>Здоровье обучающихся – это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39276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одна из целей педагогического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средство повышения качества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критерий эффективности деятельности образовательной организац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0" name="Рисунок 7" descr="sm.jpg"/>
          <p:cNvPicPr/>
          <p:nvPr/>
        </p:nvPicPr>
        <p:blipFill>
          <a:blip r:embed="rId1"/>
          <a:stretch/>
        </p:blipFill>
        <p:spPr>
          <a:xfrm>
            <a:off x="4643280" y="1125360"/>
            <a:ext cx="3345120" cy="222912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5" descr="lechebnay-fizkultura-krasnoyarsk-bubnovskiy"/>
          <p:cNvPicPr/>
          <p:nvPr/>
        </p:nvPicPr>
        <p:blipFill>
          <a:blip r:embed="rId2"/>
          <a:stretch/>
        </p:blipFill>
        <p:spPr>
          <a:xfrm>
            <a:off x="4356000" y="3429000"/>
            <a:ext cx="2251080" cy="2941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6" descr="Территория здоровья"/>
          <p:cNvPicPr/>
          <p:nvPr/>
        </p:nvPicPr>
        <p:blipFill>
          <a:blip r:embed="rId3"/>
          <a:stretch/>
        </p:blipFill>
        <p:spPr>
          <a:xfrm>
            <a:off x="6877080" y="4489560"/>
            <a:ext cx="2266920" cy="180324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1" descr=""/>
          <p:cNvPicPr/>
          <p:nvPr/>
        </p:nvPicPr>
        <p:blipFill>
          <a:blip r:embed="rId4"/>
          <a:stretch/>
        </p:blipFill>
        <p:spPr>
          <a:xfrm>
            <a:off x="-181080" y="104760"/>
            <a:ext cx="172872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ши конта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0" y="1267920"/>
            <a:ext cx="903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Министерство образования и наук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Пермского края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obr.permkrai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iro.perm.ru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ГАУ ДПО «Институт развития образования Пермского края», Отдел сопровождения ФГОС. Тел. 8(342)212 21 99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ozdip@list.ru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Лядова Наталья Владимиров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Федеральный закон «Об образовании в Российской Федерации» (с изменениями 2018 года)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zakon-ob-obrazovanii.ru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анПиН 2.4.2.2821-10 «Санитарно-эпидемиологические требования к условиям и организации обучения в общеобразовательных организациях. Санитарно-эпидемиологические правила и нормативы» с изменениями от 24 ноября 2015 года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https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</a:rPr>
              <a:t>://xn--80abucjiibhv9a.xn--p1ai/%D0%B4%D0%BE%D0%BA%D1%83%D0%BC%D0%B5%D0%BD%D1%82%D1%8B/1136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ализ проведения урока с позиции здоровьесбережения [Электронный ресурс] – Режим доступа:  http:// school6nojabrsk.narod. ru (дата обращения: 11.04.2012). Источник: 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si-sv.com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ubl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/1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zdorovesberezhenie_na_uroke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рхин В. Учитесь на здоровье: Здоровьеориентированный образовательный процесс на уроке / Владимир Ирхин, Ирина Ирхина. – М.: Чистые пруды, 2008. – 32 с. – (Библиотечка «Первого сентября», серия «Здоровье детей». Вып. 2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.М.Безруких «Методические рекомендации по оценке состояния здоровья, учебной и внеучебной нагрузки, организации учебного процесса в 1, 10 классах при проведении широкомасштабного эксперимента (блок физиологического и психо-физиологического сопровождения эксперимента)», 2001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Пастухова О.М., Гарсиа Э.Н. Мониторинг здоровья учащихся: Методическое пособие. – Пермь: ПОИПКРО, 2007 – 4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 Оценка деятельности общеобразовательного учреждения по сохранению и укреплению здоровья учащихся методическое пособие. – Пермь: ОТ и ДО, 2010. – 28 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ядова Н.В., Кокшаров В.Л. Результаты мониторинговых исследований состояния здоровьесберегающей среды в общеобразовательных организациях Пермского края. Электронный журнал «Вестник образования Пермского края». Вып. №.5.1.1 от 07.05.2015. Р.6.1.1., 22 с. 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://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vopk.ru</a:t>
            </a:r>
            <a:r>
              <a:rPr b="0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/view.php?event=levelxx_view&amp;a=5|72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Здоровьесберегающие образовательные технологии в работе учителя и школы. – М.: АРКТИ, 2003. – 271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мирнов Н.К. Руководство по здоровьесберегающей педагогике. Технологии здоровьесберегающего образования.  М.: АРКТИ, 2008.  288 с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ы здоровья России : принципы и организация работы. Мониторинг развития и эффективность / В.Р.Кучма, Л.М Сухарева, И.К.Рапопорт и др.; под ред. В.Р.Кучмы. – М. : Просвещение, 2012. – 235 с. – (Работаем по новым стандартам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Школа здоровья [Электронный ресурс] – Режим доступа: http://Schools.Keldysh.ru (дата обращения: 11.04.2012)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Источник: 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:/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si-sv.com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publ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/1/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zdorovesberezhenie_na_uroke</a:t>
            </a:r>
            <a:r>
              <a:rPr b="0" i="1" lang="ru-RU" sz="14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/14-1-0-7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Ягодкина Е.Б. Приемы здоровьесбережения на уроках.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http://festival.1september.ru/articles/627448/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42800" y="15840"/>
            <a:ext cx="82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i="1" lang="ru-RU" sz="32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«Чтобы сделать ребенка умным и рассудительным – сделайте его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крепким и здоровым» </a:t>
            </a: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Calibri"/>
              </a:rPr>
              <a:t>/Жан Жак Руссо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5" name="Рисунок 3" descr="john-jacques-rousseau-i4.jpg"/>
          <p:cNvPicPr/>
          <p:nvPr/>
        </p:nvPicPr>
        <p:blipFill>
          <a:blip r:embed="rId1"/>
          <a:stretch/>
        </p:blipFill>
        <p:spPr>
          <a:xfrm>
            <a:off x="3995640" y="476280"/>
            <a:ext cx="17287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0099"/>
                </a:solidFill>
                <a:latin typeface="Calibri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9" name="Содержимое 5" descr="Счастье 3.jpg"/>
          <p:cNvPicPr/>
          <p:nvPr/>
        </p:nvPicPr>
        <p:blipFill>
          <a:blip r:embed="rId1"/>
          <a:stretch/>
        </p:blipFill>
        <p:spPr>
          <a:xfrm>
            <a:off x="1238400" y="1849320"/>
            <a:ext cx="66672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Пермском крае накоплен большой опыт 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Calibri"/>
              </a:rPr>
              <a:t>в решении вопросов здоровьесбережения школьни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90676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создана сеть школ, содействующих здоровь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одятся краевые этапы всероссийских конкурсов «Школа – территория здоровья» (2005-2011, 2018), «Учитель здоровья России» (2011-2014, 2018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проведено 15 краевых НПК  «Здоровье и образование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апробирована единая система мониторинга здоровьесберегающей среды в ОО Пермского края с использованием разработанного в ИРО ПК Web-ресурса – сайт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eduhealth.iro.perm.ru</a:t>
            </a: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  «Школьное здоровье», 2014 г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8" name="Рисунок 6" descr="IMG_3362.JPG"/>
          <p:cNvPicPr/>
          <p:nvPr/>
        </p:nvPicPr>
        <p:blipFill>
          <a:blip r:embed="rId2"/>
          <a:stretch/>
        </p:blipFill>
        <p:spPr>
          <a:xfrm>
            <a:off x="6659640" y="1052640"/>
            <a:ext cx="2305080" cy="172872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5" descr=""/>
          <p:cNvPicPr/>
          <p:nvPr/>
        </p:nvPicPr>
        <p:blipFill>
          <a:blip r:embed="rId3"/>
          <a:stretch/>
        </p:blipFill>
        <p:spPr>
          <a:xfrm>
            <a:off x="539640" y="1125360"/>
            <a:ext cx="2016360" cy="1511640"/>
          </a:xfrm>
          <a:prstGeom prst="rect">
            <a:avLst/>
          </a:prstGeom>
          <a:ln w="0">
            <a:noFill/>
          </a:ln>
        </p:spPr>
      </p:pic>
      <p:pic>
        <p:nvPicPr>
          <p:cNvPr id="80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25200" y="333360"/>
            <a:ext cx="8218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libri"/>
              </a:rPr>
              <a:t>В рамках проекта Министерства просвещения РФ «Внедрение в общеобразовательных организациях системы мониторинга здоровья обучающихся на основе отечественной технологической платформ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0" y="1125360"/>
            <a:ext cx="9144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создан Региональный центр мониторинга здоровья обучающихся с ОВЗ, октябрь 2017 г.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0179"/>
                </a:solidFill>
                <a:latin typeface="Calibri"/>
              </a:rPr>
              <a:t>10 школ, осуществляющих образовательную деятельность по адаптированным основным общеобразовательным программам, участвующих в реализации этого проекта в рамках подпрограммы Российской Федерации «Развитие фармацевтической и медицинской промышленности» на 2013-2020 годы» в 2017 году получили современное оборудование для мониторинга здоровья обучающихся с особыми образовательными потребностями, и сотрудники прошли повышение квалификации по вопросам внедрения системы мониторинга здоровья обучающихс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3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Прямоугольник 1"/>
          <p:cNvSpPr/>
          <p:nvPr/>
        </p:nvSpPr>
        <p:spPr>
          <a:xfrm>
            <a:off x="826920" y="333360"/>
            <a:ext cx="83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</a:rPr>
              <a:t>реализуются мероприятия по формированию здорового образа жизни обучающихся и педагогов образовательных организаций Пермского края, утвержденные Минобром ПК на 2017-2018 учебный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SimSun"/>
              </a:rPr>
              <a:t>Для комплексного решения проблем здоровья школьников в Пермском крае разрабатывается </a:t>
            </a:r>
            <a:r>
              <a:rPr b="1" lang="ru-RU" sz="2400" spc="-1" strike="noStrike">
                <a:solidFill>
                  <a:srgbClr val="800080"/>
                </a:solidFill>
                <a:latin typeface="Arial"/>
                <a:ea typeface="SimSun"/>
              </a:rPr>
              <a:t>региональная модель здоровьесберегающе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Прямоугольник 2"/>
          <p:cNvSpPr/>
          <p:nvPr/>
        </p:nvSpPr>
        <p:spPr>
          <a:xfrm>
            <a:off x="179280" y="3357720"/>
            <a:ext cx="896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	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  <a:ea typeface="SimSun"/>
              </a:rPr>
              <a:t> </a:t>
            </a:r>
            <a:r>
              <a:rPr b="0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–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модернизация образователь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бщеобразовательных организаций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	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 </a:t>
            </a:r>
            <a:r>
              <a:rPr b="1" lang="ru-RU" sz="2400" spc="-1" strike="noStrike">
                <a:solidFill>
                  <a:srgbClr val="7f0179"/>
                </a:solidFill>
                <a:latin typeface="Arial"/>
                <a:ea typeface="SimSun"/>
              </a:rPr>
              <a:t>основе создания и развития здоровьесберегающей среды, направленной на содействие здоровью в контексте требований ФГОС и в условиях внедрения ВФСК Г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Рисунок 3" descr="cel.jpg"/>
          <p:cNvPicPr/>
          <p:nvPr/>
        </p:nvPicPr>
        <p:blipFill>
          <a:blip r:embed="rId1"/>
          <a:stretch/>
        </p:blipFill>
        <p:spPr>
          <a:xfrm>
            <a:off x="108000" y="3860640"/>
            <a:ext cx="1944720" cy="1109880"/>
          </a:xfrm>
          <a:prstGeom prst="rect">
            <a:avLst/>
          </a:prstGeom>
          <a:ln w="0">
            <a:noFill/>
          </a:ln>
        </p:spPr>
      </p:pic>
      <p:pic>
        <p:nvPicPr>
          <p:cNvPr id="807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Роль Конкурса «Учитель здоровья России-2018» в приобщении педагогов к делу воспитания культуры здоровья педагогов и обучающихся видится в следующе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0" y="119664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едагоги не остались равнодушными к вопросам формирования культуры здоровья школьников и поучаствовали в этом Конкур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е, кто поучаствовал, показали свое желание и умение гармонично включать в содержание учебного материала по своему предмету вопросы формирования культуры здорового образа жизни и применять здоровьесберегающие подходы в ходе уро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очном этапе Конкурса педагог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системно-деятельност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дход к обучению, ставили и достигал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цели по развитию личностных, метапредмет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ных УУД и предметных умен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демонстрировали хорошую коммуникативную культур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Picture 6" descr="Рисунок11"/>
          <p:cNvPicPr/>
          <p:nvPr/>
        </p:nvPicPr>
        <p:blipFill>
          <a:blip r:embed="rId1"/>
          <a:stretch/>
        </p:blipFill>
        <p:spPr>
          <a:xfrm>
            <a:off x="6300720" y="3716280"/>
            <a:ext cx="2843280" cy="2127240"/>
          </a:xfrm>
          <a:prstGeom prst="rect">
            <a:avLst/>
          </a:prstGeom>
          <a:ln w="0">
            <a:noFill/>
          </a:ln>
        </p:spPr>
      </p:pic>
      <p:pic>
        <p:nvPicPr>
          <p:cNvPr id="811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0" y="95256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«Самоанализе мероприятия» конкурсанты показали умение видеть свои недостатки, ошибки и их причины, не бояться сказать о ни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творческой презентации «Я – учитель здоровья» представили положительный опыт своей продолжительной и системной работы по формированию культуры здоровья обучающихся, наличие результатов по сохранению и улучшению здоровья детей, по формированию мотивации у детей следовать правилам ЗОЖ, показали свою приверженность ЗОЖ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Такие учителя по праву достойны называться учителями здоровья и быть примером для коллег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Рисунок 1" descr=""/>
          <p:cNvPicPr/>
          <p:nvPr/>
        </p:nvPicPr>
        <p:blipFill>
          <a:blip r:embed="rId1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6550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Calibri"/>
              </a:rPr>
              <a:t>Общим положительным результатом Конкурса-2018 для участвовавших в нём педагогов является то, ч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76464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каждый участник  заочного тура повысил свою компетентность и получил опыт представления результатов педагогической деятельности, в том числе, в направлении формирования здорового образа жизни обучающих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ники очного тура получили бесценный опыт проведения здоровьесберегающих уроков с учетом требований Положения о Конкурс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в условиях профессионального соперничеств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участие педагогов в Конкурсе дает бонусы к их аттестации через портфолио учителя (дипломы, сертификаты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победитель и лауреаты Конкурса получили денежное вознаграждение. Все участники получили моральное вознаграждение в виде размещения информации в сети интернет на сайте ИРО Пермского кра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Picture 4" descr="IMG_20180928_131629"/>
          <p:cNvPicPr/>
          <p:nvPr/>
        </p:nvPicPr>
        <p:blipFill>
          <a:blip r:embed="rId1"/>
          <a:stretch/>
        </p:blipFill>
        <p:spPr>
          <a:xfrm>
            <a:off x="539640" y="5229360"/>
            <a:ext cx="2178000" cy="162864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5" descr="IMG_20181002_133137"/>
          <p:cNvPicPr/>
          <p:nvPr/>
        </p:nvPicPr>
        <p:blipFill>
          <a:blip r:embed="rId2"/>
          <a:stretch/>
        </p:blipFill>
        <p:spPr>
          <a:xfrm>
            <a:off x="3348000" y="5214960"/>
            <a:ext cx="2197080" cy="164304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6" descr="IMG_20180928_123823"/>
          <p:cNvPicPr/>
          <p:nvPr/>
        </p:nvPicPr>
        <p:blipFill>
          <a:blip r:embed="rId3"/>
          <a:stretch/>
        </p:blipFill>
        <p:spPr>
          <a:xfrm>
            <a:off x="6084720" y="5160960"/>
            <a:ext cx="2259360" cy="1697040"/>
          </a:xfrm>
          <a:prstGeom prst="rect">
            <a:avLst/>
          </a:prstGeom>
          <a:ln w="0">
            <a:noFill/>
          </a:ln>
        </p:spPr>
      </p:pic>
      <p:pic>
        <p:nvPicPr>
          <p:cNvPr id="820" name="Рисунок 1" descr=""/>
          <p:cNvPicPr/>
          <p:nvPr/>
        </p:nvPicPr>
        <p:blipFill>
          <a:blip r:embed="rId4"/>
          <a:stretch/>
        </p:blipFill>
        <p:spPr>
          <a:xfrm>
            <a:off x="-108000" y="0"/>
            <a:ext cx="1008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2960"/>
            <a:ext cx="79423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cc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</a:rPr>
              <a:t>участие Министерства образования и науки Пермского края в качестве учредителя Конкурса придало статусность, весомость и значимость Конкурсу, и соответственно -  вопросам здоровьесбережения, формирования культуры здоровья - в глазах руководителей общеобразовательных организаций;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актуализируются тема «здоровье школьника», проблемы формирования культуры здоровья в образовательном пространств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создать и развить региональную сеть школ здоровья, создать банк таких школ и педагогов – учителей здоровь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появляется возможность трансляции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распространения лучшего педагогическ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опыта по формированию культуры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f0179"/>
                </a:solidFill>
                <a:latin typeface="Calibri"/>
                <a:ea typeface="SimSun"/>
              </a:rPr>
              <a:t>у обучающихся и педагогов.</a:t>
            </a:r>
            <a:r>
              <a:rPr b="1" lang="ru-RU" sz="3200" spc="-1" strike="noStrike">
                <a:solidFill>
                  <a:srgbClr val="7f0179"/>
                </a:solidFill>
                <a:latin typeface="Calibri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f01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Picture 9" descr="Копия IMG_20171102_125237"/>
          <p:cNvPicPr/>
          <p:nvPr/>
        </p:nvPicPr>
        <p:blipFill>
          <a:blip r:embed="rId1"/>
          <a:stretch/>
        </p:blipFill>
        <p:spPr>
          <a:xfrm>
            <a:off x="6335640" y="475128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824" name="Рисунок 1" descr=""/>
          <p:cNvPicPr/>
          <p:nvPr/>
        </p:nvPicPr>
        <p:blipFill>
          <a:blip r:embed="rId2"/>
          <a:stretch/>
        </p:blipFill>
        <p:spPr>
          <a:xfrm>
            <a:off x="-108000" y="0"/>
            <a:ext cx="11509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8:26:38Z</dcterms:created>
  <dc:creator>Лядова Н.В.</dc:creator>
  <dc:description/>
  <dc:language>en-US</dc:language>
  <cp:lastModifiedBy>Ljadova-NV</cp:lastModifiedBy>
  <dcterms:modified xsi:type="dcterms:W3CDTF">2019-05-14T10:54:42Z</dcterms:modified>
  <cp:revision>405</cp:revision>
  <dc:subject/>
  <dc:title>Оразование и здоровье. Школа, содействующая укреплению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7516</vt:lpwstr>
  </property>
</Properties>
</file>